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092-F2BE-4134-BBD5-829CE514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122-5685-41E7-A958-5830B9D9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8707B-2ED5-489D-AA52-D158E4E6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E45F2-EA3E-46AC-99F9-6547F7FA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CC572-D7FA-4417-9983-C22DCD5A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1B12F-44CB-4666-B1A4-F2A819D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E27A1-ABF3-4C1D-8829-4CE01B5E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FEA56-C46A-44A1-89EE-13525CA7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0A9FF-7252-4ED2-BD88-4465BE92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2B130-D04E-421D-8C1E-2A5B5394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091AC-67D3-4CC9-B635-6F406BFB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4E5D6-DCB5-4D27-AE3A-FB60B32C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75D-5315-459A-8A59-A6AC31A1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CCE10-5F34-4562-BBDA-9FD846AA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7F690-1DED-4FBF-9B04-567882A8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0545E-CB51-49BB-B8C5-EBED8658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55EF8-20C5-47AF-8EC7-7DD8F5EA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60276-42B6-4F3D-9312-B37C5751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73412-AB46-437B-B082-2C973C1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131FC-26B9-4123-9A9A-4BE8A978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0F121-D9FB-4914-ACFB-382A5DD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C0927-3A0E-4D09-970E-050BF98E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D4B87-50F4-49A4-89A3-4C808173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333-7225-4967-83F1-A4FF76E3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BAF3E-0549-4235-AA51-A9A5CDB6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48BA2-871A-4D21-9AC3-2035E0EE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2D510-D9EF-4309-A0DB-63A3758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CFB48-C058-496A-BAD2-95F418E3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4B8E2-90F5-4909-B525-D1A49DA2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6D0B9-0B9D-4265-9516-4E89241B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1A83A-1816-46C1-B4BF-19D3D0FD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1289E-7828-480E-8AF2-093B894F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7F7AA-8990-4075-9B41-4C7814C2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A5784-9AF9-4F92-A24D-8B0138F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5013-3E40-4D8F-805E-57720F4A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2FE14-B1D4-4942-9CC6-5553FB18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A85C1-A678-463E-8F8F-9FBF1C0B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D357B-DAC5-4C92-98F5-A67BA338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6DE83-EFB3-40AE-9B5A-5D47F2F8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E317B-5EF6-4ECB-8BE9-CFEAF639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7FAF0-EC3D-4EA4-B510-5B7B644A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7FA46-132F-4963-9F37-D984D013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1891E-3DBB-43AC-B59A-AB207712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ED9D7-6D46-4014-B2F8-E4D29444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290F2-068C-40DE-B514-068F24C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34D1-5B5E-442D-AE4E-54C8FA11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D481A-2321-40DA-9385-77CA917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887E4-6A10-473B-B733-17C6CDE6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09B7A-EE87-46ED-BE65-2A295499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6A75D-65B3-4734-8458-CEE5516C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48402-42D6-418B-AD86-9198DE5B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28446-5158-4BA9-8DF7-1081392D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EE7D7-DE0C-495F-9C33-921F40CA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5D093-AC4C-4A32-B17B-97DEB775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9CFE8-9455-487B-B7BB-8381350F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A8ED6-EE59-46A2-BF50-F0FF75FD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33FB-B694-4B7B-9EC6-49F9BE72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16BA8-522E-4B97-BB03-8B2CB828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B5C66-E4AC-4C00-BBB4-8ABCEDCC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09C6B-EE47-48A4-8BAD-8AEEFF78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31D65-CECA-42ED-B6E0-1559741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8FEF0-9AEC-4362-AD88-0386E6ED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298E5-D32B-48E3-8748-3CE92826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46741-9183-453F-AE1C-3C8F528A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C5854-1426-412B-B42A-DB45CD42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423C3-FE3B-47B2-B6E3-E88111C0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F31D1-427F-45D2-AC7C-288C6E1C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602A-B593-45EB-BA10-E1DC40EB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5FFE2-E2E6-4FAD-8BB4-D9C5AEF7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52112-0D10-4D66-937A-9F5B30BE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28787-F221-4FC6-AF1B-8B833FE6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65018-1B21-4C5F-87BE-0F3535C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45B1E-3675-415C-875F-CDFCFDE6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89769-ED87-4184-B62A-FFA4ED3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AD09B-5E2E-498F-8ADC-EC58634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43A22-A59A-4594-BAB9-62A84F74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A3F3D-A07E-43B8-8998-F0C140EE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B39EF-FA2E-4C40-8B39-4014898E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0E12-85BD-4D81-BA86-C159149C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FFE1C-DC36-4C87-835B-14801031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4310C-428A-4FE4-B411-4EA6B001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14F21-018E-44A2-B06A-083B6756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969B2-2327-4715-B1CE-379320FF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67B67-95B4-48C3-89C2-894E4E80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15EDE-A68D-4794-A38C-A43B1502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7181D-846C-44FD-A22A-EC2C32C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38935-305F-4B41-BBD7-9D626E7B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79A3C-7E08-4150-9E58-2FFCC653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13B88-8564-4689-A365-39A1723F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AD8A-00CD-419D-B986-36DADF8D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96AB2-71FA-4F45-AB20-70660182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F9C3C-4F28-4CDD-80A8-15DC1658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F4EDA-E760-4D52-9BD4-5ED785A4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F28AA7-266C-4117-BD4A-A1985BA4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7E06B-CA80-4901-AC0B-57F796F9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DC153-D1AB-425C-B526-334EB7C0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CC11FA-29DF-4496-85CC-78D3CCF4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96C57-25B3-43FD-A023-4C03B30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44B61-EA0D-4D11-884B-CDC26E47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5488D-A501-4CD8-9F74-DFC460C4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B87F-9901-4F85-A0E2-40A3919D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C77E96-4D56-4C4F-9342-895C7665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049EB-500B-4136-9FBF-CF8BE7BA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548C7-CF6F-4B34-93BA-ABEA25C9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B2528-3216-4691-B262-BE69014E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9558A-5405-46D8-B6A0-F41A8308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39161-E36C-4786-9E85-8433E11E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6930A-CD05-48DB-B9F7-9B38EDFA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F4564-D4C4-4BDF-A74A-D7B8B282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8363C6-9B90-414F-91D8-C16AF63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44170-984C-4212-9714-E8F7E768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9DA-FEFC-4085-A42D-44BBA266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8AD9-4AF1-4BD4-8E87-8F850D3C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D341B-07A2-4727-933A-F175D020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CD87B-8794-4B5A-9EA1-421161F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FFDF6-5956-43B3-9DE2-171D9EE4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F13EE3-AD14-4A98-9B5E-D072829C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660C0-9EA2-4D74-B9CA-451BA8F3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3674C-4002-45F8-95D5-DB69AA06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5EA71-8A8B-432B-843F-641636B8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7C1ED-16D6-4E7E-9591-EBF54ACE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E66846-1ACC-4505-8574-F8454E34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C023E-BD8C-4E3D-B916-67568A88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8FB9-774F-4CFB-A0EC-D9F2588F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24A9E6-5E46-4BB3-B1ED-857E0B16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79EF4-479E-4AEB-92C3-7207955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E5C3D7-EFBE-4D20-8F17-BE0843AF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C0DED-944F-4D0C-B0F0-64491FC0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F164A-AF38-45E7-98D4-7C2B629F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0FCF9-A463-46A5-85FE-4F3D1A5C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F4F0E-E289-4CCC-AED1-6078A5B7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DB556-CF9A-49CC-9EEA-969B3581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327CA-7D87-47B5-9199-02219A9A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6FD90-F1F5-44EE-ACFE-BB13D78A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54E8-7F05-4BBD-AEE7-17D49B5E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1DB80D-70E7-4B00-B915-0A1FC454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0D8F5-9337-4CC3-BCA1-A0CDB1E0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1AF8C-3665-4368-9718-AE0371AC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E5F38-CCA4-488A-8FFD-1D3A6065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7AE91F-660F-4CC4-9B8B-408EB70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B18EB-F40E-48ED-9B75-6F5648CC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B094A1-60C3-483F-A939-AB59969E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4D929-7F31-42BE-80A1-FAE20DAB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69A09-30DE-4E33-BFC4-1AED9BC4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79403-ECD7-4C9E-9265-B716982A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CE62-2762-4960-9F7D-253DB91A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B2D72E-9656-4A84-A632-A12BF595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69D747-2091-4A3B-9FC6-B1C4A2B2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E755F8-0300-4F79-A62B-EECD2CD6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3E1F55-3897-4A09-87E7-14EBFE42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7A8C40-5F49-448A-9130-B8891C00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D7B61A-9D0D-4A40-966C-B85BF62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D90DA-1EA0-43EE-9F39-6D225EF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AA935B-8FDE-4342-B138-71E3872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067AA-5649-40CB-A553-8EB72DF2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BD2C5-7BE7-42EA-9BC4-B1D1E8EC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ECFC-E566-43BF-9A0F-2A382765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D3758F-9B3A-4E67-8947-C648A9EB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C4013F-91D3-46C1-94EF-EE470C03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7481BE-1CB9-4EEB-AA92-1AE0AAD9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B4C7E9-EA81-4E53-B7FD-919083C0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39932-4A2D-4E67-A41A-5578A01B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2F914-5B99-4313-B640-9D2B6FEA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4E1372-5D31-4E70-AA8B-1D85DAA6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366FF7-4943-4142-B6C4-FB6ACB7F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AE4D36-2F6A-4B1A-A571-1D53D638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AA57B9-C474-46CB-83C1-A49987F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1B7B-F5E2-41C8-B9A4-AE75E6B3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D1F0AC-E542-44A5-B34D-AB2B6F25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1D598D-B1A5-4C00-8B2D-AFBCBDBA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A2EA0-D43C-451F-B9FE-A3CE9E8D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83D5-4BD7-40B8-980F-0D39C3E4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C3D9-3AF7-4DA7-AD8B-8B50521B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232B-FDD9-4D25-804F-33577237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9B2B-AA9F-497D-B7CD-435DFC5C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B22-AADC-43F6-86FB-71E47ECE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5799-E441-4A56-9C1D-07A7DF25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11A6-0D9E-4BB9-AE23-B1B57A8C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AC5E-BCC3-4CA4-A84E-B8BDA83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CD0D-47A1-4A05-A6BD-842A2814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FEA1-9BE2-4E86-8383-2F99D9F9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E14D-6632-4279-9FB6-A2E696E8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5D8AB-27B2-4899-B81B-CDA2660C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72BF-E8B6-42C5-BEC8-91E09400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5351-817A-4FD9-AFD5-08888CDA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D4A8-2C84-43C4-97CA-2EAA3243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45A-5D5B-41E4-8C1B-553B8CEB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3576C-070A-4866-9DD6-B4B81BBA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7E39B-6CD1-4314-8B45-A4AD6257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751F-8C42-4045-9B36-3A8A6BE2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241C-C91F-4448-BB9F-E4D04F57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BB3A6-A005-4A1E-BA94-A2125D22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47BAE-236F-4D7C-8F8B-D22E305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303DA-2F40-4DD4-94B7-3267BEA2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921A7-C65D-4F85-AD99-D967E383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9384-2CDB-4A73-AF12-029E62AA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F0049-90DC-481A-B232-65B09878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FD5-1C7C-427A-A73B-9BAB2659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9B34A-F97D-4515-9CD4-0D2AEA62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346D6-0F48-47F1-BB3A-1BBCE9C5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FA754-1F46-4ED3-9865-2586B67B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06A90-0FBF-478B-B5E5-F7624506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3914D-3448-4D1F-BAD0-46B7DF65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B74F7-173E-4941-A978-20E14080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FC5CF-89F9-4899-8B78-8FCDD866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1A641-701A-48B9-93E9-A4DE5CB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A69A-2822-433E-A4FC-73548FEE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B6740-0505-4FCF-A007-6D372563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931-9E9B-473E-BF27-B1A761B7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0B41B-BEAB-4DB6-8298-5C37D846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2F71-ADE1-423B-9D44-D91D6521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924DE-F8C3-4CE1-9C39-E4798662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91C91-95DE-42D3-8CD5-FDFD32E2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7271F-F3DE-4D71-987D-B2486965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95DAC-65C9-4561-BE5A-B6B1D928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C106B-6CAF-4E48-A2C3-EBCA9C8F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D7BA2-A70A-4DD9-84A2-0F18AFA6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1087D-3909-41A4-95E5-0923B35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66B0-5E45-4C91-93EB-2E9C433C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38E-4092-4C09-B5C1-CEE2214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F13E-A981-4BB9-86FC-0CD08692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B71C-DC6A-4B20-97A5-C3F70C20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A21BD-4E81-4618-8C79-B555EE6E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11E05-20C6-4CAE-8929-311AE5A8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2E5F5-96D5-43E3-8AE6-9A218A75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E5408-69E1-4A83-A11D-E9DE0C38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2BDB2-F03E-4AEF-8E64-DC1D0821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1C9A6-E4E1-4147-AFE3-CFB64A8F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30A18-12CA-4787-848E-CC56B529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592DE-7E47-41F7-957B-93BC98A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541-07D6-4FA5-BA40-72DEAB88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11F46-5FD8-40F8-A6E0-3B3E729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A161-86D9-41BA-8FC4-D775B61A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0B418-7F8E-4A2F-A5D8-A5214261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387EE-0ED8-46CD-AE11-BC301D83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71256-5A0A-4CE5-962A-75C3F224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C1C85-8D98-4148-984C-D0EF87A2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A2588-9E7B-4930-ACA9-B976E400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1A306-6BB3-4E06-B53D-9737F52E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F7016-7026-4A9A-9A7D-D064DB40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22D71-FFE9-4CCF-B227-8A13D7A6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886-73ED-424C-8AE9-E8A6C1B8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5403-2559-4F91-A493-262915E0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124F0-D4E0-4DB7-950A-52BB62A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F2025-E977-480C-8C27-877CD580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B5EDD-5790-44B9-9CE6-B6F3E81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A44B1-702E-4E59-B299-AD25C7E4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1BCF-602B-48B9-9E0A-892EDDCA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6272E-2B1B-48B8-A25C-8C5C5A4C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95DAA-3659-4B2B-A1A6-3B4C479A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E5CAE-551F-46B7-B399-AFB84E37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3655B-A7F2-4567-B9AA-35338891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4E4F-0E44-46FC-8031-54F842E330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2D81-433C-4A3E-99EA-8378C4A43D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2C65-D731-45F4-B67C-46D2FCD74B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A1BF-A055-47A4-83DC-301B937B2F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4970-61E4-42AF-A91A-7BEBA9088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DF5F-F3EF-41BD-AF0E-A03F190A96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2AD6-E41C-4796-B562-F24AFEA66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4F43-1067-47D1-9546-0100A953C8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C22C-3B7C-41E9-A3F5-D0B08768C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49FD-1E86-4C15-AF5E-CED4EA89A4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3F3E-223F-4ECD-A89A-990F8198B2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7702-83AD-4B29-AD38-A8C9B4355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61EF-862C-41A4-B40D-3252755B81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39E6-0FBC-49FB-8614-8B6DB4F4A7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917B-E5B0-49E2-8F1B-7F0DA2A07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DBF4-1CDE-4FE2-B868-1023213A51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C383-B11C-4DD4-96EB-60A75241B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3F5B-1EF4-4B68-9C96-8C430564E5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EC49-EAB1-4360-8124-36591F3070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BF4A-72D2-42C5-A564-9AA030282C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2A5D-8100-4FDF-B42F-80D8381FCA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BD1A-4D10-499F-A2E5-ED7FED0FBE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985E-BE8E-4365-B843-1FD9BE00E2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FE24-EFCC-4714-8EEA-7184F0C286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D8AC-78B2-4D36-BFB3-51B46DE126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338C-06E5-4FEA-AE43-F49522564F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189-0A4E-4C51-81E7-EDDE40BE80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6FBC-1249-4181-B241-7CB1E7BB41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54FB-8B06-4023-B0DB-78653C6E4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F410-AD26-432D-B787-BB5EB430A3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5146-544D-42F8-97B9-1A5C636D19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977C-95AF-4A2C-9A19-0A4165190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7B2F-48BB-4D26-93F7-D12EC025A9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26E5-8871-4FF7-A614-8B7567752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5C84-43B3-47D9-8811-C0A74A0A38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4AA3-2E4C-4A48-AAB5-6C1A1CC8FE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BE0-7ACA-43F0-8C17-35D8136E4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AC21-9033-44A9-8594-6696BBB7C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468A-F0EE-47A7-9404-9B7DDF4BFE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245A-C290-4B5D-AC67-B7C4FD503E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47920" y="3143160"/>
            <a:ext cx="4448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85680" y="1728720"/>
            <a:ext cx="8972640" cy="3400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826920" y="348156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068640" y="314640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068640" y="348624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311800" y="3151080"/>
            <a:ext cx="93672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311800" y="349092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826920" y="441324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826920" y="475308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3068640" y="4422600"/>
            <a:ext cx="93672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068640" y="4762440"/>
            <a:ext cx="93672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302080" y="4422600"/>
            <a:ext cx="93672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5302080" y="4762440"/>
            <a:ext cx="93672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7164360" y="3203640"/>
            <a:ext cx="1368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9410" descr=""/>
          <p:cNvPicPr/>
          <p:nvPr/>
        </p:nvPicPr>
        <p:blipFill>
          <a:blip r:embed="rId1"/>
          <a:stretch/>
        </p:blipFill>
        <p:spPr>
          <a:xfrm>
            <a:off x="252360" y="1938240"/>
            <a:ext cx="8639280" cy="2981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258920" y="2905200"/>
            <a:ext cx="100944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1258920" y="3241800"/>
            <a:ext cx="100944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4356000" y="2914560"/>
            <a:ext cx="100980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4356000" y="3251160"/>
            <a:ext cx="100980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7351560" y="2895480"/>
            <a:ext cx="100980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7351560" y="3232080"/>
            <a:ext cx="100980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1258920" y="4191120"/>
            <a:ext cx="100944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1258920" y="4527720"/>
            <a:ext cx="100944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4356000" y="4191120"/>
            <a:ext cx="100980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4356000" y="4527720"/>
            <a:ext cx="100980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7361280" y="4200480"/>
            <a:ext cx="100944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7361280" y="4537080"/>
            <a:ext cx="10094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8373" descr=""/>
          <p:cNvPicPr/>
          <p:nvPr/>
        </p:nvPicPr>
        <p:blipFill>
          <a:blip r:embed="rId1"/>
          <a:stretch/>
        </p:blipFill>
        <p:spPr>
          <a:xfrm>
            <a:off x="142920" y="879480"/>
            <a:ext cx="8858160" cy="54291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062000" y="2565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486080" y="31608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403280" y="3548160"/>
            <a:ext cx="158436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4759200" y="256536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4336920" y="316080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4643280" y="3548160"/>
            <a:ext cx="144144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1332000" y="5229360"/>
            <a:ext cx="223200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1258920" y="5589720"/>
            <a:ext cx="223200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0"/>
          <a:stretch/>
        </p:blipFill>
        <p:spPr>
          <a:xfrm>
            <a:off x="1187280" y="5950080"/>
            <a:ext cx="223236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1"/>
          <a:stretch/>
        </p:blipFill>
        <p:spPr>
          <a:xfrm>
            <a:off x="5003640" y="5229360"/>
            <a:ext cx="2232360" cy="257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2"/>
          <a:stretch/>
        </p:blipFill>
        <p:spPr>
          <a:xfrm>
            <a:off x="4932360" y="5589720"/>
            <a:ext cx="2232000" cy="2570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3"/>
          <a:stretch/>
        </p:blipFill>
        <p:spPr>
          <a:xfrm>
            <a:off x="4859280" y="5950080"/>
            <a:ext cx="223200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4"/>
          <a:stretch/>
        </p:blipFill>
        <p:spPr>
          <a:xfrm>
            <a:off x="8440560" y="292428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5"/>
          <a:stretch/>
        </p:blipFill>
        <p:spPr>
          <a:xfrm>
            <a:off x="8440560" y="333216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6"/>
          <a:stretch/>
        </p:blipFill>
        <p:spPr>
          <a:xfrm>
            <a:off x="8459640" y="376092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7"/>
          <a:stretch/>
        </p:blipFill>
        <p:spPr>
          <a:xfrm>
            <a:off x="8450280" y="41497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8"/>
          <a:stretch/>
        </p:blipFill>
        <p:spPr>
          <a:xfrm>
            <a:off x="8450280" y="458136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9"/>
          <a:stretch/>
        </p:blipFill>
        <p:spPr>
          <a:xfrm>
            <a:off x="8666280" y="5013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0"/>
          <a:stretch/>
        </p:blipFill>
        <p:spPr>
          <a:xfrm>
            <a:off x="8666280" y="540216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1"/>
          <a:stretch/>
        </p:blipFill>
        <p:spPr>
          <a:xfrm>
            <a:off x="8656560" y="5805360"/>
            <a:ext cx="2872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7:0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